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2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83E0-F7AB-4C66-9141-94E5C8A1B098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627-AADD-4F97-8C01-8A13D1922CDF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43D5-382C-4BB2-AB39-F2AAE085AFB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4B25-947B-446D-BA9F-35BF1FEDD2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3933-49E2-412E-86F4-762B8F355C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2234-EB30-41A5-8FE4-0C869DDB26F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B703-DA89-4BDF-91F8-FF1D0DC6E4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"/>
          <p:cNvSpPr/>
          <p:nvPr/>
        </p:nvSpPr>
        <p:spPr>
          <a:xfrm>
            <a:off x="936720" y="685800"/>
            <a:ext cx="4987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E731-2BBB-40C0-A77F-EA83BC32578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996-C604-4E5D-90B8-FB0ED2AD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1F0-EC57-4579-93B9-A6E37A01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C8A-E3FE-4C9A-8815-9D45D3FE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540-41E4-4EA6-8FD8-E78BB812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01F-4323-4B23-99F3-D3866E95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1D6-FA8C-47CC-BF0E-BAD07561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F77-16AA-41BF-83E8-FE5FB457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70F-940D-4D8F-BB64-9BBA5E86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1A0-9FE0-4413-A203-51B907B9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EC0-4925-41A9-9DD7-BCE544A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F98-38FE-4558-B9F5-C11967E9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0A9-734E-446A-9E74-9530F4F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A658-2F89-4E57-9699-74AC00B4213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QCA. BIOLÓGICA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4287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500040" y="1214280"/>
            <a:ext cx="807264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METABOLISMO DEL GLUCÓGENO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Glucogenolisis y Glucogenogénesis. Regulación alostérica, por modificación covalente. Control hormonal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distintos estados nutricionales</a:t>
            </a:r>
            <a:r>
              <a:rPr b="1" lang="es-AR" sz="2800" spc="-1" strike="noStrike">
                <a:solidFill>
                  <a:srgbClr val="1104b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GLUCONEOGÉNESIS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428920" y="3357720"/>
            <a:ext cx="288720" cy="1079280"/>
          </a:xfrm>
          <a:custGeom>
            <a:avLst/>
            <a:gdLst>
              <a:gd name="textAreaLeft" fmla="*/ 38520 w 288720"/>
              <a:gd name="textAreaRight" fmla="*/ 250200 w 2887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FRU-1,6-BISFOSFATASA A FRU-6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38040" y="1628640"/>
            <a:ext cx="8697960" cy="430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Hígado 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DE GLUCOSA-6-FOSFATO A GLUCO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2428920" y="3000240"/>
            <a:ext cx="288720" cy="1079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04000"/>
          </a:xfrm>
          <a:prstGeom prst="rect">
            <a:avLst/>
          </a:prstGeom>
          <a:ln w="0">
            <a:noFill/>
          </a:ln>
        </p:spPr>
      </p:pic>
      <p:sp>
        <p:nvSpPr>
          <p:cNvPr id="125" name="2 CuadroTexto"/>
          <p:cNvSpPr/>
          <p:nvPr/>
        </p:nvSpPr>
        <p:spPr>
          <a:xfrm>
            <a:off x="1285920" y="178596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4 CuadroTexto"/>
          <p:cNvSpPr/>
          <p:nvPr/>
        </p:nvSpPr>
        <p:spPr>
          <a:xfrm>
            <a:off x="370440" y="2357280"/>
            <a:ext cx="26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0"/>
          <p:cNvSpPr/>
          <p:nvPr/>
        </p:nvSpPr>
        <p:spPr>
          <a:xfrm>
            <a:off x="1500120" y="171468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2500200" y="28584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6 Rectángulo redondeado"/>
          <p:cNvSpPr/>
          <p:nvPr/>
        </p:nvSpPr>
        <p:spPr>
          <a:xfrm>
            <a:off x="3786120" y="5929200"/>
            <a:ext cx="171468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8 Rectángulo redondeado"/>
          <p:cNvSpPr/>
          <p:nvPr/>
        </p:nvSpPr>
        <p:spPr>
          <a:xfrm>
            <a:off x="4357800" y="10000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2 Rectángulo redondeado"/>
          <p:cNvSpPr/>
          <p:nvPr/>
        </p:nvSpPr>
        <p:spPr>
          <a:xfrm>
            <a:off x="4786200" y="5357880"/>
            <a:ext cx="142884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3 Rectángulo redondeado"/>
          <p:cNvSpPr/>
          <p:nvPr/>
        </p:nvSpPr>
        <p:spPr>
          <a:xfrm>
            <a:off x="4643280" y="1643040"/>
            <a:ext cx="16434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4 Rectángulo redondeado"/>
          <p:cNvSpPr/>
          <p:nvPr/>
        </p:nvSpPr>
        <p:spPr>
          <a:xfrm>
            <a:off x="4429080" y="6500880"/>
            <a:ext cx="21430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428920" y="-4680"/>
            <a:ext cx="4643280" cy="6862680"/>
          </a:xfrm>
          <a:prstGeom prst="rect">
            <a:avLst/>
          </a:prstGeom>
          <a:ln w="0">
            <a:noFill/>
          </a:ln>
        </p:spPr>
      </p:pic>
      <p:sp>
        <p:nvSpPr>
          <p:cNvPr id="135" name="2 CuadroTexto"/>
          <p:cNvSpPr/>
          <p:nvPr/>
        </p:nvSpPr>
        <p:spPr>
          <a:xfrm>
            <a:off x="356400" y="71424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0"/>
          <p:cNvSpPr/>
          <p:nvPr/>
        </p:nvSpPr>
        <p:spPr>
          <a:xfrm>
            <a:off x="4357800" y="5927760"/>
            <a:ext cx="1143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2928960" y="1285920"/>
            <a:ext cx="114300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5 Rectángulo redondeado"/>
          <p:cNvSpPr/>
          <p:nvPr/>
        </p:nvSpPr>
        <p:spPr>
          <a:xfrm>
            <a:off x="4643280" y="0"/>
            <a:ext cx="21434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 Rectángulo redondeado"/>
          <p:cNvSpPr/>
          <p:nvPr/>
        </p:nvSpPr>
        <p:spPr>
          <a:xfrm>
            <a:off x="3929040" y="428616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Rectángulo redondeado"/>
          <p:cNvSpPr/>
          <p:nvPr/>
        </p:nvSpPr>
        <p:spPr>
          <a:xfrm>
            <a:off x="3929040" y="557208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usuario\Documents\DOCENCIA\Figuras del Crash\Metabolismo de CH\40 Gluconeogenesis.jpg"/>
          <p:cNvPicPr/>
          <p:nvPr/>
        </p:nvPicPr>
        <p:blipFill>
          <a:blip r:embed="rId1"/>
          <a:stretch/>
        </p:blipFill>
        <p:spPr>
          <a:xfrm>
            <a:off x="642960" y="-103320"/>
            <a:ext cx="4943520" cy="6961320"/>
          </a:xfrm>
          <a:prstGeom prst="rect">
            <a:avLst/>
          </a:prstGeom>
          <a:ln w="0">
            <a:noFill/>
          </a:ln>
        </p:spPr>
      </p:pic>
      <p:sp>
        <p:nvSpPr>
          <p:cNvPr id="142" name="2 CuadroTexto"/>
          <p:cNvSpPr/>
          <p:nvPr/>
        </p:nvSpPr>
        <p:spPr>
          <a:xfrm>
            <a:off x="5994360" y="714240"/>
            <a:ext cx="253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Resumiendo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785880" y="3286080"/>
            <a:ext cx="100008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0"/>
          <p:cNvSpPr/>
          <p:nvPr/>
        </p:nvSpPr>
        <p:spPr>
          <a:xfrm>
            <a:off x="2428920" y="6286680"/>
            <a:ext cx="85716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0"/>
          <p:cNvSpPr/>
          <p:nvPr/>
        </p:nvSpPr>
        <p:spPr>
          <a:xfrm>
            <a:off x="1428840" y="6357960"/>
            <a:ext cx="78588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0"/>
          <p:cNvSpPr/>
          <p:nvPr/>
        </p:nvSpPr>
        <p:spPr>
          <a:xfrm>
            <a:off x="4357800" y="1357200"/>
            <a:ext cx="92844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9 CuadroTexto"/>
          <p:cNvSpPr/>
          <p:nvPr/>
        </p:nvSpPr>
        <p:spPr>
          <a:xfrm>
            <a:off x="4361400" y="142884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ecu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0"/>
          <p:cNvSpPr/>
          <p:nvPr/>
        </p:nvSpPr>
        <p:spPr>
          <a:xfrm>
            <a:off x="1857240" y="5857920"/>
            <a:ext cx="100044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1 Rectángulo redondeado"/>
          <p:cNvSpPr/>
          <p:nvPr/>
        </p:nvSpPr>
        <p:spPr>
          <a:xfrm>
            <a:off x="4214880" y="200016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2 CuadroTexto"/>
          <p:cNvSpPr/>
          <p:nvPr/>
        </p:nvSpPr>
        <p:spPr>
          <a:xfrm>
            <a:off x="4218480" y="2000160"/>
            <a:ext cx="122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sv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5 Rectángulo redondeado"/>
          <p:cNvSpPr/>
          <p:nvPr/>
        </p:nvSpPr>
        <p:spPr>
          <a:xfrm>
            <a:off x="4357800" y="53578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 redondeado"/>
          <p:cNvSpPr/>
          <p:nvPr/>
        </p:nvSpPr>
        <p:spPr>
          <a:xfrm>
            <a:off x="1928880" y="1643040"/>
            <a:ext cx="12142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 redondeado"/>
          <p:cNvSpPr/>
          <p:nvPr/>
        </p:nvSpPr>
        <p:spPr>
          <a:xfrm>
            <a:off x="1928880" y="428760"/>
            <a:ext cx="12142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229600" cy="504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En la síntesis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or c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olécula de glucosa desde 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cboxPhoto" descr="cap12-6"/>
          <p:cNvPicPr/>
          <p:nvPr/>
        </p:nvPicPr>
        <p:blipFill>
          <a:blip r:embed="rId1"/>
          <a:stretch/>
        </p:blipFill>
        <p:spPr>
          <a:xfrm>
            <a:off x="1468440" y="0"/>
            <a:ext cx="617544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3 Elipse"/>
          <p:cNvSpPr/>
          <p:nvPr/>
        </p:nvSpPr>
        <p:spPr>
          <a:xfrm>
            <a:off x="4357800" y="550080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5 Elipse"/>
          <p:cNvSpPr/>
          <p:nvPr/>
        </p:nvSpPr>
        <p:spPr>
          <a:xfrm>
            <a:off x="4357800" y="621504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7 Elipse"/>
          <p:cNvSpPr/>
          <p:nvPr/>
        </p:nvSpPr>
        <p:spPr>
          <a:xfrm>
            <a:off x="3429000" y="3857760"/>
            <a:ext cx="42876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CuadroTexto"/>
          <p:cNvSpPr/>
          <p:nvPr/>
        </p:nvSpPr>
        <p:spPr>
          <a:xfrm>
            <a:off x="7009560" y="642924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4 CuadroTexto"/>
          <p:cNvSpPr/>
          <p:nvPr/>
        </p:nvSpPr>
        <p:spPr>
          <a:xfrm>
            <a:off x="32040" y="6458040"/>
            <a:ext cx="202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EDUCHI y c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d. Panamericana, 1ª edic.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5815080" y="0"/>
            <a:ext cx="361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-GASTO DE ENER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-COMPARACIÓN CON GLICÓ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ÓN DE LA GLUCONEOGÉNESIS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Principales modul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3429000" y="1785960"/>
            <a:ext cx="3714840" cy="1714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Arial"/>
              </a:rPr>
              <a:t>(+)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mona hiperglucem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42960" y="435780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4000680" y="435780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-)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42960" y="235728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usuario\Documents\DOCENCIA\figuras feduchi\Cap. 12 Metabolismo de los hidratos de carbono\cap12-7.jpg"/>
          <p:cNvPicPr/>
          <p:nvPr/>
        </p:nvPicPr>
        <p:blipFill>
          <a:blip r:embed="rId1"/>
          <a:stretch/>
        </p:blipFill>
        <p:spPr>
          <a:xfrm>
            <a:off x="142920" y="295200"/>
            <a:ext cx="6433920" cy="6562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6215040" y="0"/>
            <a:ext cx="2928960" cy="2714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ALOST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Recípro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con la 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usuario\Documents\DOCENCIA\Figuras del Crash\Metabolismo de CH\41 Regulacion de la Gluconeogenesis.jpg"/>
          <p:cNvPicPr/>
          <p:nvPr/>
        </p:nvPicPr>
        <p:blipFill>
          <a:blip r:embed="rId1"/>
          <a:stretch/>
        </p:blipFill>
        <p:spPr>
          <a:xfrm>
            <a:off x="1285920" y="0"/>
            <a:ext cx="3314520" cy="6799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5143680" y="214200"/>
            <a:ext cx="3357360" cy="2143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GULACIÓN DE LA 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estado de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ostprand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128592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 flipV="1" rot="10800000">
            <a:off x="1000080" y="659880"/>
            <a:ext cx="721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¿Qué sucede cuando </a:t>
            </a:r>
            <a:r>
              <a:rPr b="1" i="1" lang="es-AR" sz="3600" spc="-1" strike="noStrike">
                <a:solidFill>
                  <a:srgbClr val="c00000"/>
                </a:solidFill>
                <a:latin typeface="Comic Sans MS"/>
              </a:rPr>
              <a:t>no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 h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Gluco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disponible para las célul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Por ejemplo e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la dieta sin carbohid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el ayuno prolong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después del ejercicio vigor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usuario\Documents\DOCENCIA\figuras feduchi\Cap. 12 Metabolismo de los hidratos de carbono\cap12-8.jpg"/>
          <p:cNvPicPr/>
          <p:nvPr/>
        </p:nvPicPr>
        <p:blipFill>
          <a:blip r:embed="rId1"/>
          <a:stretch/>
        </p:blipFill>
        <p:spPr>
          <a:xfrm>
            <a:off x="-71280" y="-142920"/>
            <a:ext cx="7358040" cy="7358040"/>
          </a:xfrm>
          <a:prstGeom prst="rect">
            <a:avLst/>
          </a:prstGeom>
          <a:ln w="0">
            <a:noFill/>
          </a:ln>
        </p:spPr>
      </p:pic>
      <p:sp>
        <p:nvSpPr>
          <p:cNvPr id="174" name="2 CuadroTexto"/>
          <p:cNvSpPr/>
          <p:nvPr/>
        </p:nvSpPr>
        <p:spPr>
          <a:xfrm>
            <a:off x="7162200" y="642960"/>
            <a:ext cx="197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osa-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0000"/>
                </a:solidFill>
                <a:latin typeface="Arial"/>
              </a:rPr>
              <a:t>CICLO DE C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CuadroTexto"/>
          <p:cNvSpPr/>
          <p:nvPr/>
        </p:nvSpPr>
        <p:spPr>
          <a:xfrm>
            <a:off x="7153560" y="4290840"/>
            <a:ext cx="19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osa-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CuadroTexto"/>
          <p:cNvSpPr/>
          <p:nvPr/>
        </p:nvSpPr>
        <p:spPr>
          <a:xfrm>
            <a:off x="7251120" y="2928960"/>
            <a:ext cx="187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INTERREL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ORG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5 CuadroTexto"/>
          <p:cNvSpPr/>
          <p:nvPr/>
        </p:nvSpPr>
        <p:spPr>
          <a:xfrm>
            <a:off x="152640" y="1071720"/>
            <a:ext cx="13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En ejercic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in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6 CuadroTexto"/>
          <p:cNvSpPr/>
          <p:nvPr/>
        </p:nvSpPr>
        <p:spPr>
          <a:xfrm>
            <a:off x="655200" y="627372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En ayu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muy prolon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                                                                                  QCA. BIOLÓGICA -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5 CuadroTexto"/>
          <p:cNvSpPr/>
          <p:nvPr/>
        </p:nvSpPr>
        <p:spPr>
          <a:xfrm>
            <a:off x="214200" y="1025640"/>
            <a:ext cx="8858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ón oxidativa del Piruvato,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iclo deKrebs.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1104bc"/>
                </a:solidFill>
                <a:uFillTx/>
                <a:latin typeface="Calibri"/>
              </a:rPr>
              <a:t>Vía de las Pentosas fosfato</a:t>
            </a:r>
            <a:r>
              <a:rPr b="1" lang="es-AR" sz="2800" spc="-1" strike="noStrike">
                <a:solidFill>
                  <a:srgbClr val="1104bc"/>
                </a:solidFill>
                <a:latin typeface="Calibri"/>
              </a:rPr>
              <a:t>. Etapas, función, enzimas implicadas. Relación con la glicólisis, importancia metabólica. Importancia de las vitaminas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0" y="71424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75904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5390640" y="3068640"/>
            <a:ext cx="3067200" cy="657360"/>
            <a:chOff x="5390640" y="3068640"/>
            <a:chExt cx="3067200" cy="657360"/>
          </a:xfrm>
        </p:grpSpPr>
        <p:sp>
          <p:nvSpPr>
            <p:cNvPr id="192" name="Text Box 9"/>
            <p:cNvSpPr/>
            <p:nvPr/>
          </p:nvSpPr>
          <p:spPr>
            <a:xfrm>
              <a:off x="5390640" y="3068640"/>
              <a:ext cx="25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Via de las Pen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4561200" y="407520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6"/>
          <p:cNvGrpSpPr/>
          <p:nvPr/>
        </p:nvGrpSpPr>
        <p:grpSpPr>
          <a:xfrm>
            <a:off x="541440" y="2852640"/>
            <a:ext cx="2956680" cy="873360"/>
            <a:chOff x="541440" y="2852640"/>
            <a:chExt cx="2956680" cy="873360"/>
          </a:xfrm>
        </p:grpSpPr>
        <p:sp>
          <p:nvSpPr>
            <p:cNvPr id="199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9"/>
            <p:cNvSpPr/>
            <p:nvPr/>
          </p:nvSpPr>
          <p:spPr>
            <a:xfrm>
              <a:off x="1275120" y="285264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cc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cc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2899440" y="40654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61628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5 CuadroTexto"/>
          <p:cNvSpPr/>
          <p:nvPr/>
        </p:nvSpPr>
        <p:spPr>
          <a:xfrm>
            <a:off x="6639480" y="214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egr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VIA DE LAS PENTOSAS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2920" y="1071720"/>
            <a:ext cx="83199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iene lugar en el 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citosol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Calibri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s una vía de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NADPH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 poder reduct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s biosíntesis reductoras de ácidos grasos y ester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ribosa-5-fosfato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 síntesis de nucleótidos (ATP, GTP, CTP, UTP, TTP, NAD, FAD) y ácidos nucle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gliceraldehído-3- fosfato y fructosa-6-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Muy activa en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hígado, tej. adiposo, glándula mamaria lactante, glándulas suprarrenales, erito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5 CuadroTexto"/>
          <p:cNvSpPr/>
          <p:nvPr/>
        </p:nvSpPr>
        <p:spPr>
          <a:xfrm>
            <a:off x="8501040" y="1857240"/>
            <a:ext cx="428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errar llave"/>
          <p:cNvSpPr/>
          <p:nvPr/>
        </p:nvSpPr>
        <p:spPr>
          <a:xfrm>
            <a:off x="8072280" y="2143080"/>
            <a:ext cx="357480" cy="214308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2143080"/>
              <a:gd name="textAreaBottom" fmla="*/ 21340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A DE LAS PENTOSAS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ARACTERISTICAS DE LAS RE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28760" y="1600200"/>
            <a:ext cx="8258040" cy="5257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vía de la pentosas consta de dos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AS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Fase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Fase no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0000cc"/>
                </a:solidFill>
                <a:latin typeface="Calibri"/>
              </a:rPr>
              <a:t>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ún las necesidades de la célula es má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vía interconvierte azúcares de 3, 4, 5, 6 y 7 carbo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9024840" cy="4214880"/>
          </a:xfrm>
          <a:prstGeom prst="rect">
            <a:avLst/>
          </a:prstGeom>
          <a:ln w="0">
            <a:noFill/>
          </a:ln>
        </p:spPr>
      </p:pic>
      <p:sp>
        <p:nvSpPr>
          <p:cNvPr id="219" name="Rectángulo 4"/>
          <p:cNvSpPr/>
          <p:nvPr/>
        </p:nvSpPr>
        <p:spPr>
          <a:xfrm>
            <a:off x="458640" y="276120"/>
            <a:ext cx="822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VIA de las PENTOSAS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ASE OXID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79440" y="6450840"/>
            <a:ext cx="497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YON S. 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. HARCOURT BRACE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Lo esencial del metabolismo y nutrición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,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 CuadroTexto"/>
          <p:cNvSpPr/>
          <p:nvPr/>
        </p:nvSpPr>
        <p:spPr>
          <a:xfrm>
            <a:off x="6938280" y="600084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  <a:ea typeface="Arial"/>
              </a:rPr>
              <a:t>VIA de las PENTOSAS-P</a:t>
            </a:r>
            <a:br>
              <a:rPr sz="2500"/>
            </a:br>
            <a:r>
              <a:rPr b="1" lang="es-ES" sz="2500" spc="-1" strike="noStrike">
                <a:solidFill>
                  <a:srgbClr val="ff0000"/>
                </a:solidFill>
                <a:latin typeface="Arial"/>
                <a:ea typeface="Arial"/>
              </a:rPr>
              <a:t>FASE OXIDATIV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224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228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229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prstGeom prst="pie">
                <a:avLst/>
              </a:pr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237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Calibri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240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241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244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247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Calibri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252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rc 39"/>
            <p:cNvSpPr/>
            <p:nvPr/>
          </p:nvSpPr>
          <p:spPr>
            <a:xfrm>
              <a:off x="2652480" y="4005360"/>
              <a:ext cx="3143160" cy="7189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6 CuadroTexto"/>
          <p:cNvSpPr/>
          <p:nvPr/>
        </p:nvSpPr>
        <p:spPr>
          <a:xfrm>
            <a:off x="5731200" y="1214280"/>
            <a:ext cx="53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n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8 Rectángulo redondeado"/>
          <p:cNvSpPr/>
          <p:nvPr/>
        </p:nvSpPr>
        <p:spPr>
          <a:xfrm>
            <a:off x="285840" y="328608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9 Rectángulo redondeado"/>
          <p:cNvSpPr/>
          <p:nvPr/>
        </p:nvSpPr>
        <p:spPr>
          <a:xfrm>
            <a:off x="6143760" y="607212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40 CuadroTexto"/>
          <p:cNvSpPr/>
          <p:nvPr/>
        </p:nvSpPr>
        <p:spPr>
          <a:xfrm>
            <a:off x="2078280" y="26431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41 CuadroTexto"/>
          <p:cNvSpPr/>
          <p:nvPr/>
        </p:nvSpPr>
        <p:spPr>
          <a:xfrm>
            <a:off x="5364000" y="26431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Hidrólisis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2 CuadroTexto"/>
          <p:cNvSpPr/>
          <p:nvPr/>
        </p:nvSpPr>
        <p:spPr>
          <a:xfrm>
            <a:off x="3302280" y="592920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Descarbox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  <a:ea typeface="Arial"/>
              </a:rPr>
              <a:t>VIA de las PENTOSAS-P </a:t>
            </a:r>
            <a:br>
              <a:rPr sz="2500"/>
            </a:br>
            <a:r>
              <a:rPr b="1" lang="es-ES" sz="2500" spc="-1" strike="noStrike">
                <a:solidFill>
                  <a:srgbClr val="00b050"/>
                </a:solidFill>
                <a:latin typeface="Arial"/>
                <a:ea typeface="Arial"/>
              </a:rPr>
              <a:t>FASE NO OXIDATIV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265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268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271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8"/>
          <p:cNvGrpSpPr/>
          <p:nvPr/>
        </p:nvGrpSpPr>
        <p:grpSpPr>
          <a:xfrm>
            <a:off x="4500720" y="2997360"/>
            <a:ext cx="2303280" cy="1386360"/>
            <a:chOff x="4500720" y="2997360"/>
            <a:chExt cx="2303280" cy="1386360"/>
          </a:xfrm>
        </p:grpSpPr>
        <p:sp>
          <p:nvSpPr>
            <p:cNvPr id="274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Cuadro de texto 16"/>
            <p:cNvSpPr/>
            <p:nvPr/>
          </p:nvSpPr>
          <p:spPr>
            <a:xfrm>
              <a:off x="4572000" y="2997360"/>
              <a:ext cx="201600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PP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P-Ti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278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279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Calibri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282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4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285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288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293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rc 33"/>
            <p:cNvSpPr/>
            <p:nvPr/>
          </p:nvSpPr>
          <p:spPr>
            <a:xfrm rot="450600">
              <a:off x="3839760" y="1482840"/>
              <a:ext cx="720720" cy="2808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34 Rectángulo redondeado"/>
          <p:cNvSpPr/>
          <p:nvPr/>
        </p:nvSpPr>
        <p:spPr>
          <a:xfrm>
            <a:off x="71280" y="4214880"/>
            <a:ext cx="17146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98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300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302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303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306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alibri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050"/>
                </a:solidFill>
                <a:latin typeface="Arial"/>
              </a:rPr>
              <a:t>FASE NO OXIDATIVA (co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311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rc 28"/>
            <p:cNvSpPr/>
            <p:nvPr/>
          </p:nvSpPr>
          <p:spPr>
            <a:xfrm flipH="1">
              <a:off x="898560" y="1197000"/>
              <a:ext cx="1441440" cy="57636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314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315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317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8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9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322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4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1"/>
            <p:cNvGrpSpPr/>
            <p:nvPr/>
          </p:nvGrpSpPr>
          <p:grpSpPr>
            <a:xfrm>
              <a:off x="3492360" y="4797360"/>
              <a:ext cx="2016000" cy="1495440"/>
              <a:chOff x="3492360" y="4797360"/>
              <a:chExt cx="2016000" cy="1495440"/>
            </a:xfrm>
          </p:grpSpPr>
          <p:sp>
            <p:nvSpPr>
              <p:cNvPr id="328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Cuadro de texto 22"/>
              <p:cNvSpPr/>
              <p:nvPr/>
            </p:nvSpPr>
            <p:spPr>
              <a:xfrm>
                <a:off x="3492360" y="4797360"/>
                <a:ext cx="2016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P-Tiami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331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rc 32"/>
            <p:cNvSpPr/>
            <p:nvPr/>
          </p:nvSpPr>
          <p:spPr>
            <a:xfrm flipH="1">
              <a:off x="830160" y="4221000"/>
              <a:ext cx="1292400" cy="4320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ógeno des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usuario\Documents\DOCENCIA\Figuras del Crash\Metabolismo de CH\35 F no O de VP.jpg"/>
          <p:cNvPicPr/>
          <p:nvPr/>
        </p:nvPicPr>
        <p:blipFill>
          <a:blip r:embed="rId1"/>
          <a:stretch/>
        </p:blipFill>
        <p:spPr>
          <a:xfrm>
            <a:off x="214200" y="71280"/>
            <a:ext cx="7419960" cy="6786720"/>
          </a:xfrm>
          <a:prstGeom prst="rect">
            <a:avLst/>
          </a:prstGeom>
          <a:ln w="0">
            <a:noFill/>
          </a:ln>
        </p:spPr>
      </p:pic>
      <p:sp>
        <p:nvSpPr>
          <p:cNvPr id="336" name="Rectángulo 2"/>
          <p:cNvSpPr/>
          <p:nvPr/>
        </p:nvSpPr>
        <p:spPr>
          <a:xfrm>
            <a:off x="5529240" y="4857840"/>
            <a:ext cx="36147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VIA de las PENTOSAS-P </a:t>
            </a:r>
            <a:br>
              <a:rPr sz="1800"/>
            </a:b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FASE NO OXIDATIV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000160" y="-12600"/>
            <a:ext cx="5133960" cy="6870600"/>
          </a:xfrm>
          <a:prstGeom prst="rect">
            <a:avLst/>
          </a:prstGeom>
          <a:ln w="0">
            <a:noFill/>
          </a:ln>
        </p:spPr>
      </p:pic>
      <p:sp>
        <p:nvSpPr>
          <p:cNvPr id="338" name="5 Cerrar corchete"/>
          <p:cNvSpPr/>
          <p:nvPr/>
        </p:nvSpPr>
        <p:spPr>
          <a:xfrm>
            <a:off x="5786280" y="857160"/>
            <a:ext cx="1857600" cy="2143080"/>
          </a:xfrm>
          <a:custGeom>
            <a:avLst/>
            <a:gdLst>
              <a:gd name="textAreaLeft" fmla="*/ 0 w 1857600"/>
              <a:gd name="textAreaRight" fmla="*/ 1302840 w 1857600"/>
              <a:gd name="textAreaTop" fmla="*/ 77400 h 2143080"/>
              <a:gd name="textAreaBottom" fmla="*/ 20656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0"/>
                  <a:pt x="21600" y="1560"/>
                </a:cubicBezTo>
                <a:lnTo>
                  <a:pt x="21600" y="20040"/>
                </a:lnTo>
                <a:cubicBezTo>
                  <a:pt x="21600" y="208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6 Cerrar corchete"/>
          <p:cNvSpPr/>
          <p:nvPr/>
        </p:nvSpPr>
        <p:spPr>
          <a:xfrm>
            <a:off x="5796000" y="3286080"/>
            <a:ext cx="1857240" cy="3071880"/>
          </a:xfrm>
          <a:custGeom>
            <a:avLst/>
            <a:gdLst>
              <a:gd name="textAreaLeft" fmla="*/ 0 w 1857240"/>
              <a:gd name="textAreaRight" fmla="*/ 1302840 w 1857240"/>
              <a:gd name="textAreaTop" fmla="*/ 77040 h 3071880"/>
              <a:gd name="textAreaBottom" fmla="*/ 299484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4"/>
                  <a:pt x="21600" y="1088"/>
                </a:cubicBezTo>
                <a:lnTo>
                  <a:pt x="21600" y="20512"/>
                </a:lnTo>
                <a:cubicBezTo>
                  <a:pt x="21600" y="2105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7 CuadroTexto"/>
          <p:cNvSpPr/>
          <p:nvPr/>
        </p:nvSpPr>
        <p:spPr>
          <a:xfrm>
            <a:off x="7850880" y="142884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8 CuadroTexto"/>
          <p:cNvSpPr/>
          <p:nvPr/>
        </p:nvSpPr>
        <p:spPr>
          <a:xfrm>
            <a:off x="7674480" y="45720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No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9 CuadroTexto"/>
          <p:cNvSpPr/>
          <p:nvPr/>
        </p:nvSpPr>
        <p:spPr>
          <a:xfrm>
            <a:off x="3099600" y="1143000"/>
            <a:ext cx="1357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Glu-6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3 CuadroTexto"/>
          <p:cNvSpPr/>
          <p:nvPr/>
        </p:nvSpPr>
        <p:spPr>
          <a:xfrm>
            <a:off x="3857760" y="785880"/>
            <a:ext cx="152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Calibri"/>
              </a:rPr>
              <a:t>Glucosa-6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4 CuadroTexto"/>
          <p:cNvSpPr/>
          <p:nvPr/>
        </p:nvSpPr>
        <p:spPr>
          <a:xfrm>
            <a:off x="3304080" y="2000160"/>
            <a:ext cx="11865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6P-Gluc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5 CuadroTexto"/>
          <p:cNvSpPr/>
          <p:nvPr/>
        </p:nvSpPr>
        <p:spPr>
          <a:xfrm>
            <a:off x="3492720" y="3000240"/>
            <a:ext cx="944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Iso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6 CuadroTexto"/>
          <p:cNvSpPr/>
          <p:nvPr/>
        </p:nvSpPr>
        <p:spPr>
          <a:xfrm>
            <a:off x="4781880" y="3000240"/>
            <a:ext cx="95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Ep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17 CuadroTexto"/>
          <p:cNvSpPr/>
          <p:nvPr/>
        </p:nvSpPr>
        <p:spPr>
          <a:xfrm>
            <a:off x="3974760" y="371484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9 CuadroTexto"/>
          <p:cNvSpPr/>
          <p:nvPr/>
        </p:nvSpPr>
        <p:spPr>
          <a:xfrm>
            <a:off x="4055040" y="4764240"/>
            <a:ext cx="1221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ald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20 CuadroTexto"/>
          <p:cNvSpPr/>
          <p:nvPr/>
        </p:nvSpPr>
        <p:spPr>
          <a:xfrm>
            <a:off x="4000680" y="7128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21 CuadroTexto"/>
          <p:cNvSpPr/>
          <p:nvPr/>
        </p:nvSpPr>
        <p:spPr>
          <a:xfrm>
            <a:off x="3351600" y="428760"/>
            <a:ext cx="114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22 CuadroTexto"/>
          <p:cNvSpPr/>
          <p:nvPr/>
        </p:nvSpPr>
        <p:spPr>
          <a:xfrm>
            <a:off x="3786120" y="2630520"/>
            <a:ext cx="178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Ribulosa-5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25 CuadroTexto"/>
          <p:cNvSpPr/>
          <p:nvPr/>
        </p:nvSpPr>
        <p:spPr>
          <a:xfrm>
            <a:off x="3643200" y="1714680"/>
            <a:ext cx="214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6P-Gluc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28 CuadroTexto"/>
          <p:cNvSpPr/>
          <p:nvPr/>
        </p:nvSpPr>
        <p:spPr>
          <a:xfrm>
            <a:off x="2786040" y="4143240"/>
            <a:ext cx="138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29 CuadroTexto"/>
          <p:cNvSpPr/>
          <p:nvPr/>
        </p:nvSpPr>
        <p:spPr>
          <a:xfrm>
            <a:off x="2149560" y="1357200"/>
            <a:ext cx="34236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30 CuadroTexto"/>
          <p:cNvSpPr/>
          <p:nvPr/>
        </p:nvSpPr>
        <p:spPr>
          <a:xfrm>
            <a:off x="5072040" y="514368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ritrosa-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31 CuadroTexto"/>
          <p:cNvSpPr/>
          <p:nvPr/>
        </p:nvSpPr>
        <p:spPr>
          <a:xfrm>
            <a:off x="2643120" y="5143680"/>
            <a:ext cx="150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32 CuadroTexto"/>
          <p:cNvSpPr/>
          <p:nvPr/>
        </p:nvSpPr>
        <p:spPr>
          <a:xfrm>
            <a:off x="2571840" y="334476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Rib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33 CuadroTexto"/>
          <p:cNvSpPr/>
          <p:nvPr/>
        </p:nvSpPr>
        <p:spPr>
          <a:xfrm>
            <a:off x="5072040" y="335772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Xilul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34 CuadroTexto"/>
          <p:cNvSpPr/>
          <p:nvPr/>
        </p:nvSpPr>
        <p:spPr>
          <a:xfrm>
            <a:off x="5072040" y="414324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dohep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losa-7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35 CuadroTexto"/>
          <p:cNvSpPr/>
          <p:nvPr/>
        </p:nvSpPr>
        <p:spPr>
          <a:xfrm>
            <a:off x="2714760" y="584532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36 CuadroTexto"/>
          <p:cNvSpPr/>
          <p:nvPr/>
        </p:nvSpPr>
        <p:spPr>
          <a:xfrm>
            <a:off x="4983120" y="6059520"/>
            <a:ext cx="166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7 CuadroTexto"/>
          <p:cNvSpPr/>
          <p:nvPr/>
        </p:nvSpPr>
        <p:spPr>
          <a:xfrm>
            <a:off x="5974920" y="578628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38 CuadroTexto"/>
          <p:cNvSpPr/>
          <p:nvPr/>
        </p:nvSpPr>
        <p:spPr>
          <a:xfrm>
            <a:off x="5371560" y="22860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39 CuadroTexto"/>
          <p:cNvSpPr/>
          <p:nvPr/>
        </p:nvSpPr>
        <p:spPr>
          <a:xfrm>
            <a:off x="5371560" y="13572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40 Elipse"/>
          <p:cNvSpPr/>
          <p:nvPr/>
        </p:nvSpPr>
        <p:spPr>
          <a:xfrm>
            <a:off x="5214960" y="1214280"/>
            <a:ext cx="1285920" cy="500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41 Elipse"/>
          <p:cNvSpPr/>
          <p:nvPr/>
        </p:nvSpPr>
        <p:spPr>
          <a:xfrm>
            <a:off x="5286240" y="221472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42 Elipse"/>
          <p:cNvSpPr/>
          <p:nvPr/>
        </p:nvSpPr>
        <p:spPr>
          <a:xfrm>
            <a:off x="2786040" y="328608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45 Flecha curvada hacia la izquierda"/>
          <p:cNvSpPr/>
          <p:nvPr/>
        </p:nvSpPr>
        <p:spPr>
          <a:xfrm rot="6865200">
            <a:off x="2467080" y="3865680"/>
            <a:ext cx="295200" cy="87624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160 h 876240"/>
              <a:gd name="textAreaBottom" fmla="*/ 6480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46 Flecha curvada hacia la izquierda"/>
          <p:cNvSpPr/>
          <p:nvPr/>
        </p:nvSpPr>
        <p:spPr>
          <a:xfrm rot="7051800">
            <a:off x="2453760" y="49017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47 Flecha curvada hacia la izquierda"/>
          <p:cNvSpPr/>
          <p:nvPr/>
        </p:nvSpPr>
        <p:spPr>
          <a:xfrm rot="7212000">
            <a:off x="2453760" y="54813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51 Flecha curvada hacia la izquierda"/>
          <p:cNvSpPr/>
          <p:nvPr/>
        </p:nvSpPr>
        <p:spPr>
          <a:xfrm rot="5560800">
            <a:off x="3790800" y="4717800"/>
            <a:ext cx="397080" cy="3571920"/>
          </a:xfrm>
          <a:custGeom>
            <a:avLst/>
            <a:gdLst>
              <a:gd name="textAreaLeft" fmla="*/ 52920 w 397080"/>
              <a:gd name="textAreaRight" fmla="*/ 344160 w 397080"/>
              <a:gd name="textAreaTop" fmla="*/ 855720 h 3571920"/>
              <a:gd name="textAreaBottom" fmla="*/ 266652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3700920"/>
                <a:lnTo>
                  <a:pt x="5400" y="21271"/>
                </a:lnTo>
                <a:lnTo>
                  <a:pt x="0" y="21000"/>
                </a:lnTo>
                <a:lnTo>
                  <a:pt x="5400" y="20071"/>
                </a:lnTo>
                <a:lnTo>
                  <a:pt x="5400" y="20371"/>
                </a:lnTo>
                <a:arcTo wR="21600" hR="10350" stAng="3700920" swAng="-3653156"/>
                <a:lnTo>
                  <a:pt x="21591" y="10650"/>
                </a:lnTo>
                <a:arcTo wR="21600" hR="10350" stAng="-47763" swAng="-5352237"/>
                <a:close/>
              </a:path>
              <a:path fill="darkenLess"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-47763"/>
                <a:lnTo>
                  <a:pt x="21591" y="10650"/>
                </a:lnTo>
                <a:arcTo wR="21600" hR="10350" stAng="-47763" swAng="-535223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9"/>
          <p:cNvGrpSpPr/>
          <p:nvPr/>
        </p:nvGrpSpPr>
        <p:grpSpPr>
          <a:xfrm>
            <a:off x="1857240" y="1143000"/>
            <a:ext cx="2643120" cy="571680"/>
            <a:chOff x="1857240" y="1143000"/>
            <a:chExt cx="2643120" cy="571680"/>
          </a:xfrm>
        </p:grpSpPr>
        <p:sp>
          <p:nvSpPr>
            <p:cNvPr id="373" name="Rectangle 6"/>
            <p:cNvSpPr/>
            <p:nvPr/>
          </p:nvSpPr>
          <p:spPr>
            <a:xfrm rot="5400000">
              <a:off x="3499920" y="713880"/>
              <a:ext cx="571680" cy="14292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 flipH="1" flipV="1">
              <a:off x="1857240" y="1285920"/>
              <a:ext cx="1250280" cy="69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"/>
          <p:cNvSpPr/>
          <p:nvPr/>
        </p:nvSpPr>
        <p:spPr>
          <a:xfrm>
            <a:off x="0" y="1136520"/>
            <a:ext cx="1890720" cy="8240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alibri"/>
              </a:rPr>
              <a:t>Enzima reguladora de la Vía de las Pent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56 Llamada de flecha hacia abajo"/>
          <p:cNvSpPr/>
          <p:nvPr/>
        </p:nvSpPr>
        <p:spPr>
          <a:xfrm>
            <a:off x="428760" y="0"/>
            <a:ext cx="1357200" cy="1071720"/>
          </a:xfrm>
          <a:prstGeom prst="downArrowCallout">
            <a:avLst>
              <a:gd name="adj1" fmla="val 25001"/>
              <a:gd name="adj2" fmla="val 24993"/>
              <a:gd name="adj3" fmla="val 25000"/>
              <a:gd name="adj4" fmla="val 64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58 Rectángulo"/>
          <p:cNvSpPr/>
          <p:nvPr/>
        </p:nvSpPr>
        <p:spPr>
          <a:xfrm>
            <a:off x="428760" y="0"/>
            <a:ext cx="1357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NADPH+H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59 Llamada de flecha hacia abajo"/>
          <p:cNvSpPr/>
          <p:nvPr/>
        </p:nvSpPr>
        <p:spPr>
          <a:xfrm rot="10800000">
            <a:off x="580680" y="2300400"/>
            <a:ext cx="919080" cy="1271520"/>
          </a:xfrm>
          <a:prstGeom prst="down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60 Rectángulo"/>
          <p:cNvSpPr/>
          <p:nvPr/>
        </p:nvSpPr>
        <p:spPr>
          <a:xfrm>
            <a:off x="707040" y="2500200"/>
            <a:ext cx="77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NADP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23 Rectángulo"/>
          <p:cNvSpPr/>
          <p:nvPr/>
        </p:nvSpPr>
        <p:spPr>
          <a:xfrm>
            <a:off x="0" y="62150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Calibri"/>
              </a:rPr>
              <a:t>BLANCO A. y BLANCO G., “Química Biológica”, Ed. El Ateneo, 9a edic.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324000" y="260280"/>
            <a:ext cx="8496000" cy="672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VIA de las PENTOSAS-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-consideraciones finale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Puede considerarse otra forma de </a:t>
            </a:r>
            <a:r>
              <a:rPr b="1" lang="es-ES" sz="2000" spc="-1" strike="noStrike" u="sng">
                <a:solidFill>
                  <a:srgbClr val="0000cc"/>
                </a:solidFill>
                <a:uFillTx/>
                <a:latin typeface="Calibri"/>
              </a:rPr>
              <a:t>oxidar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la glucosa-6-fosfato a CO</a:t>
            </a:r>
            <a:r>
              <a:rPr b="1" lang="es-ES" sz="20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s generadora de intermediarios para otras ví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l NADPH actúa en procesos de desintoxicación dependientes de citocromo P450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860120" y="27936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718800" y="17733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5508720" y="3357720"/>
            <a:ext cx="2922480" cy="368280"/>
            <a:chOff x="5508720" y="3357720"/>
            <a:chExt cx="2922480" cy="368280"/>
          </a:xfrm>
        </p:grpSpPr>
        <p:sp>
          <p:nvSpPr>
            <p:cNvPr id="62" name="Text Box 10"/>
            <p:cNvSpPr/>
            <p:nvPr/>
          </p:nvSpPr>
          <p:spPr>
            <a:xfrm>
              <a:off x="7110360" y="3357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b7de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í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1104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6"/>
          <p:cNvGrpSpPr/>
          <p:nvPr/>
        </p:nvGrpSpPr>
        <p:grpSpPr>
          <a:xfrm>
            <a:off x="541440" y="3214800"/>
            <a:ext cx="2735280" cy="368280"/>
            <a:chOff x="541440" y="3214800"/>
            <a:chExt cx="2735280" cy="368280"/>
          </a:xfrm>
        </p:grpSpPr>
        <p:sp>
          <p:nvSpPr>
            <p:cNvPr id="68" name="Text Box 17"/>
            <p:cNvSpPr/>
            <p:nvPr/>
          </p:nvSpPr>
          <p:spPr>
            <a:xfrm>
              <a:off x="541440" y="3214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>
              <a:off x="1619280" y="328464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Oval 20"/>
          <p:cNvSpPr/>
          <p:nvPr/>
        </p:nvSpPr>
        <p:spPr>
          <a:xfrm rot="5400000">
            <a:off x="1650960" y="1420560"/>
            <a:ext cx="2556000" cy="5286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4071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1785960" y="3571920"/>
            <a:ext cx="1584360" cy="288720"/>
          </a:xfrm>
          <a:prstGeom prst="rightArrow">
            <a:avLst>
              <a:gd name="adj1" fmla="val 49454"/>
              <a:gd name="adj2" fmla="val 86886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9 CuadroTexto"/>
          <p:cNvSpPr/>
          <p:nvPr/>
        </p:nvSpPr>
        <p:spPr>
          <a:xfrm>
            <a:off x="6756840" y="1285920"/>
            <a:ext cx="179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6600"/>
                </a:solidFill>
                <a:latin typeface="Comic Sans MS"/>
              </a:rPr>
              <a:t>Integremo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LUCONE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54160" y="2428920"/>
            <a:ext cx="8532720" cy="400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SINTETIZAR GLUCO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CTATO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l metabolismo anaero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viene de la degradación de ácidos 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Alanina)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rivados del recambio de proteí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A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ductos de la degradación de aminoác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 LUGAR PRINCIPALMENTE EN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HIGADO y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SO QUE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CuadroTexto"/>
          <p:cNvSpPr/>
          <p:nvPr/>
        </p:nvSpPr>
        <p:spPr>
          <a:xfrm>
            <a:off x="500040" y="1214280"/>
            <a:ext cx="785808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c00000"/>
                </a:solidFill>
                <a:uFillTx/>
                <a:latin typeface="Arial"/>
              </a:rPr>
              <a:t>GLUCONEOGÉNESIS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 es el proceso de biosíntesis de Glucos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tir de compuestos no gluc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71680" y="0"/>
            <a:ext cx="77724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es activa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 CuadroTexto"/>
          <p:cNvSpPr/>
          <p:nvPr/>
        </p:nvSpPr>
        <p:spPr>
          <a:xfrm>
            <a:off x="164304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 CuadroTexto"/>
          <p:cNvSpPr/>
          <p:nvPr/>
        </p:nvSpPr>
        <p:spPr>
          <a:xfrm>
            <a:off x="785880" y="571680"/>
            <a:ext cx="7643880" cy="5946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eta es carente en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situaciones fisiológicas como el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os estados patológicos (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abetes no tratad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, en que la glucosa no puede ingresar a la célula para ser utilizada como fuente de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spués del ejercicio vigor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hígad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el órgano principal donde tiene lugar la Gluconeogénesis (órgano encargado de la homeostasis de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onde la glucosa es indispensable como fuente de energía (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cerebro; glóbulos roj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57160" y="3214800"/>
            <a:ext cx="7772400" cy="57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Dónde es activa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57160" y="5143680"/>
            <a:ext cx="7772400" cy="57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Qué células/tejidos son más dependientes de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2920" y="1285920"/>
            <a:ext cx="8686800" cy="511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133d6"/>
                </a:solidFill>
                <a:latin typeface="Comic Sans MS"/>
              </a:rPr>
              <a:t>¡ PROBLEM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104bc"/>
                </a:solidFill>
                <a:latin typeface="Comic Sans MS"/>
              </a:rPr>
              <a:t>¿CÓMO SE REVIERT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REACCIONES IRREVERSIBLES DE LA VÍA GLICOL</a:t>
            </a:r>
            <a:r>
              <a:rPr b="1" i="1" lang="en-US" sz="2000" spc="-1" strike="noStrike">
                <a:solidFill>
                  <a:srgbClr val="1104bc"/>
                </a:solidFill>
                <a:latin typeface="Comic Sans MS"/>
              </a:rPr>
              <a:t>Í</a:t>
            </a: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TIC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GLUCONEOGÉNESIS </a:t>
            </a:r>
            <a:r>
              <a:rPr b="1" lang="es-ES" sz="1800" spc="-1" strike="noStrike" u="sng">
                <a:solidFill>
                  <a:srgbClr val="c00000"/>
                </a:solidFill>
                <a:uFillTx/>
                <a:latin typeface="Arial"/>
              </a:rPr>
              <a:t>NO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 ES EL CAMINO INVERSO A LA VÍA GLICOLÍT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IMPLICA OTRAS 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A TRAVÉS DE LAS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REACCIONES DE DESV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CATALIZ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 CARBOXIL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isoenzimas,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GLU-6-FOSFATASA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 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, solo en 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ACCIONES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86040" y="14400"/>
            <a:ext cx="3929040" cy="68436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361080" y="2858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3000240" y="0"/>
            <a:ext cx="11430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5575320" y="121428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CuadroTexto"/>
          <p:cNvSpPr/>
          <p:nvPr/>
        </p:nvSpPr>
        <p:spPr>
          <a:xfrm>
            <a:off x="5432760" y="5380200"/>
            <a:ext cx="2100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154080" y="257184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RREVER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9 Conector curvado"/>
          <p:cNvCxnSpPr/>
          <p:nvPr/>
        </p:nvCxnSpPr>
        <p:spPr>
          <a:xfrm flipV="1">
            <a:off x="1500120" y="999720"/>
            <a:ext cx="1858320" cy="1572480"/>
          </a:xfrm>
          <a:prstGeom prst="curvedConnector5">
            <a:avLst>
              <a:gd name="adj1" fmla="val 49990"/>
              <a:gd name="adj2" fmla="val 49988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3" name="10 Conector curvado"/>
          <p:cNvCxnSpPr/>
          <p:nvPr/>
        </p:nvCxnSpPr>
        <p:spPr>
          <a:xfrm flipH="1" rot="16200000">
            <a:off x="1392120" y="3964680"/>
            <a:ext cx="1858320" cy="15008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4" name="11 Conector curvado"/>
          <p:cNvCxnSpPr/>
          <p:nvPr/>
        </p:nvCxnSpPr>
        <p:spPr>
          <a:xfrm flipV="1">
            <a:off x="1999800" y="1856880"/>
            <a:ext cx="1143720" cy="85824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5" name="17 CuadroTexto"/>
          <p:cNvSpPr/>
          <p:nvPr/>
        </p:nvSpPr>
        <p:spPr>
          <a:xfrm>
            <a:off x="6228720" y="2643120"/>
            <a:ext cx="2251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104bc"/>
                </a:solidFill>
                <a:latin typeface="Arial"/>
              </a:rPr>
              <a:t>GLUCONE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9 Rectángulo redondeado"/>
          <p:cNvSpPr/>
          <p:nvPr/>
        </p:nvSpPr>
        <p:spPr>
          <a:xfrm>
            <a:off x="5429160" y="0"/>
            <a:ext cx="13575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0 CuadroTexto"/>
          <p:cNvSpPr/>
          <p:nvPr/>
        </p:nvSpPr>
        <p:spPr>
          <a:xfrm>
            <a:off x="5403960" y="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82520" y="1074600"/>
            <a:ext cx="524664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1)- 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OXALACETA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000680" y="2214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000680" y="228600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PIRUVATO A FOSFOENOL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21"/>
          <p:cNvGrpSpPr/>
          <p:nvPr/>
        </p:nvGrpSpPr>
        <p:grpSpPr>
          <a:xfrm>
            <a:off x="73080" y="3738600"/>
            <a:ext cx="8746920" cy="2709360"/>
            <a:chOff x="73080" y="3738600"/>
            <a:chExt cx="8746920" cy="2709360"/>
          </a:xfrm>
        </p:grpSpPr>
        <p:grpSp>
          <p:nvGrpSpPr>
            <p:cNvPr id="109" name="Group 20"/>
            <p:cNvGrpSpPr/>
            <p:nvPr/>
          </p:nvGrpSpPr>
          <p:grpSpPr>
            <a:xfrm>
              <a:off x="73080" y="3738600"/>
              <a:ext cx="8746920" cy="2709360"/>
              <a:chOff x="73080" y="3738600"/>
              <a:chExt cx="8746920" cy="2709360"/>
            </a:xfrm>
          </p:grpSpPr>
          <p:sp>
            <p:nvSpPr>
              <p:cNvPr id="110" name="Rectangle 3"/>
              <p:cNvSpPr/>
              <p:nvPr/>
            </p:nvSpPr>
            <p:spPr>
              <a:xfrm>
                <a:off x="271800" y="3738600"/>
                <a:ext cx="8122320" cy="52056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2)- FOSFOENOLPIRUVATO CARBOXIQUIN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19"/>
              <p:cNvGrpSpPr/>
              <p:nvPr/>
            </p:nvGrpSpPr>
            <p:grpSpPr>
              <a:xfrm>
                <a:off x="73080" y="4797360"/>
                <a:ext cx="8746920" cy="1650600"/>
                <a:chOff x="73080" y="4797360"/>
                <a:chExt cx="8746920" cy="1650600"/>
              </a:xfrm>
            </p:grpSpPr>
            <p:sp>
              <p:nvSpPr>
                <p:cNvPr id="112" name="Text Box 10"/>
                <p:cNvSpPr/>
                <p:nvPr/>
              </p:nvSpPr>
              <p:spPr>
                <a:xfrm>
                  <a:off x="73080" y="4797360"/>
                  <a:ext cx="8315280" cy="863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1104bc"/>
                      </a:solidFill>
                      <a:latin typeface="Arial"/>
                    </a:rPr>
                    <a:t>OXALACETATO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OSFOENOLPIRUVATO + CO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17"/>
                <p:cNvSpPr/>
                <p:nvPr/>
              </p:nvSpPr>
              <p:spPr>
                <a:xfrm>
                  <a:off x="4716360" y="5805360"/>
                  <a:ext cx="4103640" cy="6426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ISOENZIMAS CITOSOLICA Y MITOCONDR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6"/>
                <p:cNvSpPr/>
                <p:nvPr/>
              </p:nvSpPr>
              <p:spPr>
                <a:xfrm>
                  <a:off x="1116000" y="5553000"/>
                  <a:ext cx="1484280" cy="530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12"/>
                <p:cNvSpPr/>
                <p:nvPr/>
              </p:nvSpPr>
              <p:spPr>
                <a:xfrm>
                  <a:off x="2465280" y="5084640"/>
                  <a:ext cx="1314720" cy="540000"/>
                </a:xfrm>
                <a:custGeom>
                  <a:avLst/>
                  <a:gdLst>
                    <a:gd name="textAreaLeft" fmla="*/ 230040 w 1314720"/>
                    <a:gd name="textAreaRight" fmla="*/ 953280 w 1314720"/>
                    <a:gd name="textAreaTop" fmla="*/ 72360 h 540000"/>
                    <a:gd name="textAreaBottom" fmla="*/ 467640 h 54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14"/>
                <p:cNvSpPr/>
                <p:nvPr/>
              </p:nvSpPr>
              <p:spPr>
                <a:xfrm>
                  <a:off x="3132000" y="5624640"/>
                  <a:ext cx="1484280" cy="529920"/>
                </a:xfrm>
                <a:prstGeom prst="ellipse">
                  <a:avLst/>
                </a:prstGeom>
                <a:solidFill>
                  <a:srgbClr val="ec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Line 11"/>
            <p:cNvSpPr/>
            <p:nvPr/>
          </p:nvSpPr>
          <p:spPr>
            <a:xfrm>
              <a:off x="2571840" y="500076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ali y facu</cp:lastModifiedBy>
  <dcterms:modified xsi:type="dcterms:W3CDTF">2016-09-15T17:36:47Z</dcterms:modified>
  <cp:revision>280</cp:revision>
  <dc:subject/>
  <dc:title>Diapositiva 1</dc:title>
</cp:coreProperties>
</file>